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97A3-C0D2-4697-A238-E2B2B924A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6C47-83AB-4B00-9A1E-F4A506947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8ABF-90D7-4F0A-8DD4-971ED1163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9D8D-9CB6-4874-BEF0-D686FC6D48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B0B7-A3D4-4D32-9329-C47DC9B1D6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4509-604D-4440-9707-061E778AD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2887-C5BE-4189-BBCE-B9115FA57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95B3-2A34-47C4-ABCE-40CBF8279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E1F7-9B57-4FE9-9E2B-87B5F599B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AB9C-41AA-49F2-BFC6-337337C9C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0ECB-E500-48E6-8644-4DEF03A77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D61A-1ACC-411B-8767-495B8632C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8797EAA-8EDA-48B2-B5C8-2A649CBC34A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CheckBox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: Autor: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#Autor# / Last change #Date#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/ date of print: </a:t>
            </a:r>
            <a:fld id="{1CD648E9-99C6-4307-A7D8-32B6CC0C8A68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1" descr=""/>
          <p:cNvPicPr/>
          <p:nvPr/>
        </p:nvPicPr>
        <p:blipFill>
          <a:blip r:embed="rId9"/>
          <a:stretch/>
        </p:blipFill>
        <p:spPr>
          <a:xfrm>
            <a:off x="5614920" y="44280"/>
            <a:ext cx="417348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244B1CB-131F-45BB-ADC2-DCDF9BD7528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#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heckBox #ItemRev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utor: #Autor# Date: #Date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338E0F8-CB11-4FFC-A183-BDF62689169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Dataset #ItemRev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etails for CheckBox NX3 to Nx7.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5"/>
          <p:cNvSpPr/>
          <p:nvPr/>
        </p:nvSpPr>
        <p:spPr>
          <a:xfrm>
            <a:off x="4940280" y="1827360"/>
            <a:ext cx="0" cy="3870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77920" y="5970600"/>
            <a:ext cx="92660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1"/>
          <p:cNvSpPr/>
          <p:nvPr/>
        </p:nvSpPr>
        <p:spPr>
          <a:xfrm>
            <a:off x="290520" y="1108080"/>
            <a:ext cx="9462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Dir: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\\Server\Nxshare\JobManagerV2\90-DATA\Customer_WorkInst_TestSystem\12-Data\CheckBoxData\??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.Report: \\Server\Nxshare\JobManagerV2\90-DATA\Customer_WorkInst_TestSystem\12-Data\CheckBoxData\???\?? _NX75-NX3_Dif_Xml.t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scription 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36520" y="1628640"/>
            <a:ext cx="164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X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146560" y="1628640"/>
            <a:ext cx="164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X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3-01-04T14:07:09Z</dcterms:modified>
  <cp:revision>239</cp:revision>
  <dc:subject/>
  <dc:title>PLMJobManagerV2 Docu Custome</dc:title>
</cp:coreProperties>
</file>